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882-BECB-450D-8118-8ED742E3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1F0-04FC-495C-92E7-40662C2F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660EF-D492-4427-BAAB-5FDB851A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6C0A3-544D-4377-872A-F0C73625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26DE-0D60-4461-89BF-33724808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4F323-E80E-48FC-9E1C-F6DE6F5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94EE2-7425-4D28-B122-AF5BE901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E0EBE-7154-4AD2-B043-D73B8D72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B5220-A1B9-46CE-9A7C-8A6A0099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484E7-B00F-4D04-BD83-C230ACC8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1A647-6AF7-4407-B6BE-625FFF48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8B83E-C9C7-46FD-A74C-C64FFE3A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BE6-4018-48DC-BA20-D110F88C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B9B19-DD86-4F45-9084-763DCB6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AFCD9-CC9F-4FA0-9686-FD4C8E3F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4A484-6DAE-460F-AE7F-CAA55F8A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156DC-FC0C-4319-940A-C63075BA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21823-FAD7-4B2E-A1A7-0A031D09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E0A01-6950-4229-9EC5-3C84240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70B2F-2659-4CD4-8161-C34E49E4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91668-335A-47A3-AE25-B8C0FA9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10EC3-665E-42CC-A9E4-5FDFBCF6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6898E-F541-4334-9152-34DA2FEB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527-F2A4-4916-A232-E17483E9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94206-F03C-4FDB-877A-76A97D64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AE80E-4236-4AB9-B280-D05446A4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2D330-373A-409D-851F-F79B448A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85A14-D530-4CCC-AF39-0BDE0725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FAB9C-E585-403B-BB6C-3DA14B0D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40717-967C-4234-9867-646CF0B9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E68FF-AF08-4372-9B6A-680AE3E3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7A994-CE0C-4355-8B80-3D3A772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16ACB-8EAE-4F47-82B5-010BD397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3FB1B-5B86-4C67-8386-1FED131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6BD0-7796-4206-A9AB-6CC4BCD3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9C093-F837-4AA1-9D63-E1F8DE3C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33C25-0679-473A-B87E-51CB2A26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A214D-89D2-4B72-A94B-0D6B4067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F3068-9400-46BA-8DF8-7AF78E76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69E28-9812-4DC0-88D6-22774C59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929F1-79BC-4039-82D6-D732D6F3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E1B41-C883-4564-A871-991A7AF7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26FCE-385C-45BB-99BF-A8A923E5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8916D-288B-4D9A-8B29-348C49DC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9A1DB-82A0-4000-B334-6218DF5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2D21-6AFD-4004-99EC-C0CF5FEB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932C6-3CB7-45BF-8F36-4A4AB65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266A9-59BE-4EC9-92CE-EFD32ADF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11016-3223-4938-8C7A-6C45CD66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C084E-21F2-4873-B329-C242617E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46182-A79F-4A77-90CE-62C733E8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358B5-0D8B-4672-8B1F-F234C332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56683-22E3-4AB9-BD03-C1C51808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54B9B-27A1-411F-94C1-C3F9F281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F5880-4E96-410F-82DD-7FCA5715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DEC52-6DDD-47A8-9A52-1667415C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78F4-C576-4746-AA7D-104EC5E4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BBC60-CB99-46CB-B8D4-9A7172A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264D2-670E-4F38-94C2-7578486F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51D9A-79FB-472A-93FF-99BAD5A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1B823-A189-428C-8B54-920466A6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8F515-CEB9-4678-A27E-A103223D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FF087-4C3E-4944-A015-4D1F18D8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48931-07E9-44D9-89E6-B482D503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7B25E-FADA-4103-849B-475B01DD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7C6FC-5669-4856-82B7-9C78150B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E08BE-CFEB-4E70-A326-684D3164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A399-D578-4F6F-83D6-9DA6ACCA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199BB-A15D-4A7A-8DBC-A2F8802A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F4D0B-3F15-48C5-9B0D-9C06894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C303E-DB30-4F51-8D79-B4E6C0B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8ED6F-E4C3-4F76-9233-F8FA9F30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E7EE2-2C3B-4F3C-906F-9C92B58C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4B5AF-B96D-463C-AB67-6BFE6AB6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89F04-A529-4DF3-9A4E-C216333C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18F68-E450-41EE-9704-33ADA654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DBFD1-EA51-4702-8B24-577BCF24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5ABED-13B5-438B-94CF-2E852CAF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DD72-A643-4AB4-83C8-77D6D0BF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CE587-3C7C-4B90-B9F7-E8DE9BD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B2F7D-B119-4DD6-8631-6D2B0924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B12DF-0D70-41D6-A2B3-AA6533F8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E6AC0-673A-4738-806F-0588532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B981EF-CB0C-470E-9A73-29DF0AD8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DAC69-6CD7-421A-A7FD-911E264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ADC5F-1504-43D4-8461-7984F95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9B305-53B6-4D1E-8E43-249ADDF5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F00D8-7333-4D9B-9698-892F2B4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EE602-A7A4-4F52-8F83-FBF8F67C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2A66-ECD0-43F6-8BFA-E2EBE575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F12F8-664D-447C-B741-CE8643A2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52E79-0193-48DC-82E0-B85D734E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D24DB-2C09-4DE9-90F6-E197C559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63F81-514A-43D4-8C83-F4DA9FCA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8AF29-B9E2-4132-B12B-94F0FD9C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A61A7-EF2A-4215-9B53-588255D8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1F167-6AFA-4315-9F49-592164B0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6EF6B-D25C-4125-8C44-B684D5E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8BF94-7094-4EBE-8EB6-BBA50612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EE91C-222B-4407-92F3-7A6843D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9101-312A-4E18-A531-71D18E4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07426-AF62-410D-B6B5-564E4DC5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B5351-79F6-4E64-820F-33C88409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03093-3BB5-4306-9EE1-46A237F8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12FEC-E2EF-4E44-B876-9B8045B8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EF451-2C46-444E-AD61-2185AD2C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B29F96-D6B0-4A05-8308-7456F135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B5335-026B-4FDB-A925-726438DB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AB83D-1312-4B68-AD40-7B29CBE5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A72F6-81F0-490F-AEFA-F3EFC9FE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D77B8-B29C-4D9F-A822-5332A1FC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66D-92C0-42D9-82C9-88EB6683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710A-5D60-4782-99DA-AFD7ECA4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211DA-7E80-457B-952B-10275A14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2A02A-A44E-4AF6-9AF0-C6F6F988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5947B-6AE2-4430-AB64-56275D8F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CFBEC2-7548-4A50-825F-645A27E0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BF79F-412D-48FC-AC23-9DA558CB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1E8F9A-479F-4E8C-B27C-E7BEDBAB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BF3A1-8642-4648-A10A-9CE3A4BA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9A3A8C-6115-4B0A-8831-FA25335E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38151-5790-48D2-883A-1419D122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E478D-362E-4A45-87E3-1784A61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9AE7-F569-47BD-8ABB-F5329B41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8457CD-0BFD-451C-8411-BD3B87E0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FC5EC-FD51-419C-85C3-6358217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3C865-B15A-4F96-8721-A31DB733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BF49A-6FBC-477F-91D8-43B0B536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7EEA3-F012-4D7D-9024-8B929453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2C23F-036D-40D7-ADB5-F067FDA7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73864-1592-4B20-9EF1-BE05F988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594D5-CBC5-4075-8D51-ADF730B7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7C2ED9-2426-480C-A52C-C7B09522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ABDFE-1F98-4AB7-AF3D-0117A4EE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19DB-78D3-48CD-9965-1E037FD7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FE0176-D51C-4C95-80D6-3B23CCEC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C36F2-A598-4CB7-BD50-C96DA14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48455-E5D7-4E30-939F-11D00753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2FD83-508E-447C-A486-0547874C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03AD8A-2D31-4F61-B98F-CC82E26D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730E0B-0FB3-46AC-9ECA-4382BEDD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1D211-8EE2-4B3B-ACB8-42EAE959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26799-FEED-41F2-AC8A-8EFB3896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C2AA4-985C-4754-8CB7-2BEE7009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57295-4C3A-47B6-BEC9-4238F4D7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EDAF-DAF3-407E-B58D-A2787886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7A8D6-BAD9-4234-8B55-5D774E7F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8F16F-DC4B-4428-876D-4D7B1BD4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A3461-1A1A-40C4-B8FE-163B12DA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571D6-16B7-4DEF-A02C-321EF6D3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FAC26-85DF-4BF2-8229-45E9CF87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E12A1-DC47-461F-BAB4-83AB0DDB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7EE3A-2C2C-413E-9D50-5770247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93989-CB6A-414F-AFE2-6A3E625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92838-4429-41F7-9B27-203EE379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D3DAE-3CD3-43DF-8246-1667A0C1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086E-8CF8-4DF7-AF4E-26BF6FCF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06C17-413E-463A-9E69-3B5BD2D1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5AAF7-571B-41EF-A1FA-183E4D3A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6A1ADA-13F5-42B3-A023-5EB056D1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2E7FF-96D0-4190-9B8A-FD21A33E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444CED-FB02-4A7B-B9FD-9A4CB1BA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400927-8F0D-4F4F-9591-FFC9E05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92C5D-E0F0-49D5-A6FA-E786BFC3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F32B33-D5C0-43DA-B4BD-843F6E61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0E933-4B86-4095-AB08-2946A97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A3B0AA-7D14-4A34-AB88-FDC716BE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E634-FB0D-4499-BC8D-BF1B6750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E0314F-4879-4E0B-B31C-F903E2E6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08D000-D9A4-4B7F-988A-4BEA20C3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F3B2A-283C-4724-94FA-3D05688C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7A19-E99C-4AD7-B2FF-63EF87F5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EA5B-3FDE-458C-9BA6-A18A2AE1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5D1F-7716-45BB-8334-10AB34F7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9B6B-7FFA-48E5-A012-4D86BE43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0E0-7AD0-4883-98D2-6801A764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F6717-552B-4EC2-A178-BD2B62B5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97AA-FBAB-47E3-B68D-17A2EA6A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386A-E88B-470A-8F33-8B4FEF1F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ABDC-CDF6-4B6A-8255-A569397A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CDFE-2866-4A1D-8911-9FC3FC99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F95B7-C6A4-44A0-A8B5-76D8AFC7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4D93-9B84-49D6-B200-E8E737E0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C75F-5929-4552-931C-F4CC9B87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539E-8758-4692-9F8D-10EF0ED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67E5C-60CF-4E01-8270-8B2B2E7B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59A-FA74-48E5-AF5E-8E61FFE1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60BA-9999-4430-A37D-F998B04D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F686-C4E0-43D0-BA0F-27304AD8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2FE9D-04E2-4199-A3AB-B51F92CC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5725-0E3C-4A47-87C7-7D0E13A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481E-84DB-44F2-8E3F-09B1A860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628B-B7C4-4B7B-B562-632289C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4C49-14B4-423F-9192-C92822D3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7745-9C00-408B-AEDB-3C4BDC9B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A77C-4D9D-444A-B52E-996E70A4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0B8A0-66B1-4E1C-BBAA-B0CDE413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C6F-0064-44C2-88FB-82A221FE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06AE3-41C0-4677-B2FC-98D32691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C1638-A0F7-41FC-84D0-DE9C7C03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10FC-F24F-4FA9-81E0-90F2C71E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CE370-68FA-4E5D-8F34-99B1ACD9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36F17-4ED8-4628-9040-D2292575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A3DCD-12A1-46CA-BD5A-BE9ED71B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CFDA9-4FA1-4CBE-A0E1-07A6373F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87500-DEEC-4FC6-8247-63EE88E0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630E0-99CA-4746-A75D-C8794A21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99AF-A1A4-425C-8E26-A01183FE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056-F7D5-46D9-9831-282962E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3ABB-4340-4640-B572-23B6A47C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23041-903D-4C78-B123-2C32BABB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F63B-E1A5-46A9-9769-8BC5B49F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18C70-AAD9-403D-ABC1-D22B76DB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9E6A1-0664-4004-80FA-AE12BD7F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2E36A-2766-49AA-B971-15270A81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B303F-7A1A-4B0B-9ABA-CAE28983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E2F1D-B3C9-4449-8D68-3F66BADC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A0FCE-C057-45F5-B15F-7AC6A45D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2553-03C5-4C87-A2A7-C736731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60C-E976-4EEF-9512-C5B38CBF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AF2AF-C23A-4B74-BC4C-390C288F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0F55-8292-4A6E-A939-01E282F8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A15F7-DA34-4285-AB98-DC886C40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4794D-7D54-42DF-A2A2-826268DC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14F3F-B4EB-4A45-BB93-844FFE46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3058A-A898-40E3-A6CD-129F7BE7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9BB54-253F-42C4-8047-C88D4C11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521F1-90F4-4083-98E5-E2B6E021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AF3E1-6A53-49D3-A46D-A971C718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668B8-68D2-461D-A7C8-F039F95E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377-93F0-4153-B34D-264A1154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9AEC-E1CF-41F5-B863-1EF0F981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0FFD9-B02E-417F-8646-D78AF542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82F24-D090-4AFB-BD22-821E925A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3ECE6-F730-482E-8135-12912CF9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C7120-5CB1-44B7-81C3-6A833F9E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8BDF6-D74D-4538-AF48-75010DBE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67E34-11F5-4E8A-9FA5-CA50991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632A5-2E71-4A8C-829D-A65BD28A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D419E-6487-4BFA-924A-DB8E3626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43358-385E-4950-ABEF-407E6708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1F3-59FF-43C1-B4FF-1D9261C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DE4CB-3DCE-46B1-8A8B-565F407C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41918-A3E0-4AA8-8429-9F581EA9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9F66D-B3AA-4BB4-9099-AF56C81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BA63-3AE1-4EC1-9EF2-C4AA656E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4F06E-F6F8-4402-82F2-F0653007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6B0DF-B8E2-4D03-9A43-064DB35E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CCBA4-EEB0-41BB-80EB-4F621D3B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5D01F-2D52-480E-B22A-E5C3C0B7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469DF-1EC3-406E-8F7A-D73EE4BC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BAC2B-3E6A-46F6-9BBA-480052A3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14E3-1FF4-4D03-A62E-BAD479CCA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8E2A-3A9A-4CA4-82C9-23F232F22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5A12-190B-470F-BD81-A4B36D2C7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0836-E2ED-4908-8B6B-55A8BA796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BF6F-5E00-4DAB-AB09-D4C006EDF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CDF-728B-4A83-9448-897B00398D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1FA2-57CE-4104-8CDF-A2ED34E3C9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9558-7EF0-45F4-B0FD-CE70BAC79D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183C-F839-43E8-96A7-E3E994C1D9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3929-6093-4C25-95E0-B72CDE2267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EFDA-6BD0-4DE4-9987-FF4A6A84C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B127-BEE3-4334-9366-244A9B1CB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0486-0A8E-43BF-A925-EC6AA5B030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B6F6-744F-4DFA-BEAC-F44337BF6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8EEB-7B7D-49E1-8B55-1F67F6169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7957-D4AD-4EA6-9E86-ACE30D64C9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86E7-26BC-4F2D-8169-AB541D4BF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5251-356C-4D67-8FBD-457C1B181D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078F-3709-475D-9891-EDA3DC248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DC6F-26BF-4012-8446-D5CF1AAC90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F1E2-E037-4D50-AD48-CD03654A00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3761-61EE-416E-98D0-5589BE455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9A61-2D15-41E7-8F2C-D76D7C3D56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5C7E-AFEB-44EC-B87B-7A7A9F8D28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DC29-E914-4440-9781-7F9FC022FA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EF70-5358-432B-9B09-E929194B76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C23E-EA42-411A-8A5C-692B0D3050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562-FBAD-4783-A3C7-5C0CA8979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AED6-F7F4-44B1-8EC9-26978B2DB1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A4EC-4B48-4759-B33C-2490DF3EC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3D6-0E27-4132-B0B6-B2B3C755EC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A8E4-E4A7-4821-8A9E-C37733BCAE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5144-575E-46B4-8C8A-7958E3CEF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8C55-B997-425F-985C-B91CAE3D8D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F9DF-BE3C-4363-9B1A-0A045E4B5B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4B10-F7BE-4F10-BE95-A7B4EF246C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01AB-9F8C-4BDD-9672-2457610277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A560-C6C8-4BDF-AF7E-E93DBE6BA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51A7-5575-4645-9942-B902761ECE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871-D65F-42DA-926A-F7B16B231D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228760" y="2833560"/>
            <a:ext cx="46864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57240" y="1395360"/>
            <a:ext cx="9029520" cy="16718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155520" y="3308400"/>
            <a:ext cx="5342040" cy="20955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73240" y="2708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364000" y="2708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8445600" y="2708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82692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82692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82692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826920" y="472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826920" y="5084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495360" y="1666800"/>
            <a:ext cx="8153280" cy="3524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1187280" y="40766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509760" y="2224080"/>
            <a:ext cx="8123040" cy="2409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1187280" y="39481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5:3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